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8.wmf" ContentType="image/x-wmf"/>
  <Override PartName="/ppt/media/image7.wmf" ContentType="image/x-wmf"/>
  <Override PartName="/ppt/media/image6.wmf" ContentType="image/x-wmf"/>
  <Override PartName="/ppt/media/image3.wmf" ContentType="image/x-wmf"/>
  <Override PartName="/ppt/media/image4.wmf" ContentType="image/x-wmf"/>
  <Override PartName="/ppt/media/PROJCTOR.WAV" ContentType="audio/x-wav"/>
  <Override PartName="/ppt/media/image15.wmf" ContentType="image/x-wmf"/>
  <Override PartName="/ppt/media/image13.wmf" ContentType="image/x-wmf"/>
  <Override PartName="/ppt/media/image16.wmf" ContentType="image/x-wmf"/>
  <Override PartName="/ppt/media/WHOOSH.WAV" ContentType="audio/x-wav"/>
  <Override PartName="/ppt/media/CHIMES.WAV" ContentType="audio/x-wav"/>
  <Override PartName="/ppt/media/image11.wmf" ContentType="image/x-wmf"/>
  <Override PartName="/ppt/media/image12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LASER.WAV" ContentType="audio/x-wav"/>
  <Override PartName="/ppt/media/CAMERA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523-D030-4115-8C32-EAEA10FA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7DB-4D30-4945-807A-82F882A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423-6815-4345-9809-75762FE5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56B-4735-4092-9869-3AC18487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FEB-42BC-4187-BECC-FB14D04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603-A857-4371-A6CB-1B5A6F8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C7D-2286-45CB-BB6A-8F486B5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6E7-670B-4A5A-897C-4CD1020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835-BDC1-40BC-961B-753C76D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6AC-E708-4168-8610-9AF6D83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F6E-B72E-457C-BF24-B61E65C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7F9-5D29-4354-91C4-1BFCEEB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CD6A-32EA-4127-B01A-080B0908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PROJCTOR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audio" Target="../media/PROJCTOR.WAV"/><Relationship Id="rId16" Type="http://schemas.openxmlformats.org/officeDocument/2006/relationships/audio" Target="../media/CHIMES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audio" Target="../media/WHOOSH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28800" y="2209680"/>
          <a:ext cx="100188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10018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01880" y="2647800"/>
                <a:ext cx="938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" name=""/>
          <p:cNvGraphicFramePr/>
          <p:nvPr/>
        </p:nvGraphicFramePr>
        <p:xfrm>
          <a:off x="2057400" y="4648320"/>
          <a:ext cx="49860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648320"/>
                    <a:ext cx="498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58880" y="4557600"/>
                <a:ext cx="817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Eight less than half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0400" y="12952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3080" y="1295280"/>
            <a:ext cx="11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6960" y="1295280"/>
            <a:ext cx="8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 number decreased by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2760" y="388620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16040" y="2351160"/>
                <a:ext cx="722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3124080" y="243828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4382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76400" y="5118120"/>
                <a:ext cx="606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402000" y="5203800"/>
          <a:ext cx="91296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5203800"/>
                    <a:ext cx="9129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Product of ten and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63600" y="1295280"/>
            <a:ext cx="14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ven squared increased by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9480" y="3886200"/>
            <a:ext cx="14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qu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5360" y="3886200"/>
            <a:ext cx="16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76720" y="2590920"/>
          <a:ext cx="755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90920"/>
                    <a:ext cx="755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124080" y="1676520"/>
          <a:ext cx="974880" cy="16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97488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95480" y="5257800"/>
          <a:ext cx="4986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257800"/>
                    <a:ext cx="498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352680" y="5105520"/>
          <a:ext cx="9129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5105520"/>
                    <a:ext cx="912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Quotient of a number and six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7080" y="1295280"/>
            <a:ext cx="15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Difference of a number and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50440" y="3886200"/>
            <a:ext cx="17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 verbal model, assign labels and write an algebra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523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7. The student government is selling baseball hats at $8 each. The group wants to raise $2480. How many hats does the group need to s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81280" y="3352680"/>
          <a:ext cx="4003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514600" y="5638680"/>
          <a:ext cx="5144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638680"/>
                    <a:ext cx="51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0481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ost per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04812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h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43440" y="337500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37500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324480" y="3048120"/>
            <a:ext cx="2438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money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1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st per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h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money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2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95480" y="5715000"/>
          <a:ext cx="51444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715000"/>
                    <a:ext cx="514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5562720"/>
          <a:ext cx="571680" cy="74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5562720"/>
                    <a:ext cx="5716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86200" y="5638680"/>
          <a:ext cx="21416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5638680"/>
                    <a:ext cx="214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62320" y="6114960"/>
          <a:ext cx="3589200" cy="7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6114960"/>
                    <a:ext cx="3589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 verbal model, assign labels and write an algebra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8. You and your two sisters bought a gift for your brother. You paid $7.50 for your share (one-third of the gift). What was the total cost of the gi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581280" y="3352680"/>
          <a:ext cx="4003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5334120"/>
          <a:ext cx="5461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334120"/>
                    <a:ext cx="546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0481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ar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048120"/>
            <a:ext cx="20574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ost of g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5880" y="335268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35268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048120"/>
            <a:ext cx="22096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moun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14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r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1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572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ost of g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oun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7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5791320"/>
          <a:ext cx="5140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791320"/>
                    <a:ext cx="514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15880" y="5715000"/>
          <a:ext cx="636840" cy="7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5880" y="5715000"/>
                    <a:ext cx="636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021040" y="5715000"/>
          <a:ext cx="1909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21040" y="5715000"/>
                    <a:ext cx="1909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56120" y="5629320"/>
          <a:ext cx="312588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6120" y="5629320"/>
                    <a:ext cx="31258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5T13:02:18Z</dcterms:modified>
  <cp:revision>24</cp:revision>
  <dc:subject/>
  <dc:title>No Slide Title</dc:title>
</cp:coreProperties>
</file>